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DA4-B490-4254-9B23-51057FD7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2EB-CB71-4A9D-8213-FB1DA2D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E7E-8BAC-43EC-B702-3BB05B09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A8E-F657-42FF-B421-0F82414D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52BB-ACD2-4EEE-8BC1-ACAE59A3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294E-2CCF-45D8-9A48-CF36E16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A095-837B-4314-9C8C-BA0DB9AF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3DEF-6DA8-47F8-84FF-4B8034F0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C58-CBDD-4121-AC19-2124FCD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CBC0-CDD0-42C6-9DD3-1FFAD485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F5C5-0B4A-410A-BE53-9F42865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51E-C6C2-4A2C-9668-B9432CCE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561B-71E1-4830-A905-A837E058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F69-3B49-40FB-9A30-9E3E2AFA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42C8-88F1-4343-8E89-B0A94B0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246E-0228-4FA0-A8D5-69821FA2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A07C-3A09-410B-834C-C6E60805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D84-70F5-47F7-9324-5A5EA89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D01-93BD-42FD-A6C9-32F4262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2F3-2599-4F6C-816E-B14D8EEB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E7A-9684-44AA-92BE-25A90FD0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5E8-C5B2-4670-B402-F1F1098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3A0-A81E-46D3-9C8A-003DD84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DEC-AC7D-4BB7-AF5A-A1BF950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F63E-FA4E-4EC1-87F3-60012078B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555-E30D-4820-812D-1A3591177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lexsey Chern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el desayuno me gust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cereal    el pan tostado   un yog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go de naranja     el h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4572000"/>
            <a:ext cx="1735200" cy="2019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95480" y="25146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86400" y="2590920"/>
            <a:ext cx="1300320" cy="164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657600" y="4648320"/>
            <a:ext cx="24051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muerzo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el almuerzo me gusto co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hamburguesa  un sopa  un sal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as fritas  un limo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565280" cy="195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86200" y="2362320"/>
            <a:ext cx="144468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429000" y="4191120"/>
            <a:ext cx="2092320" cy="139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715000" y="2438280"/>
            <a:ext cx="190188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n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el cena me gusto co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biftec  las papas  el arroz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ola   los frijol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1676520" cy="2019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175248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438280" y="259092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1292400" cy="122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23:57:32Z</dcterms:created>
  <dc:creator> </dc:creator>
  <dc:description/>
  <dc:language>en-US</dc:language>
  <cp:lastModifiedBy> </cp:lastModifiedBy>
  <dcterms:modified xsi:type="dcterms:W3CDTF">2011-04-15T00:52:29Z</dcterms:modified>
  <cp:revision>8</cp:revision>
  <dc:subject/>
  <dc:title>Las comidas</dc:title>
</cp:coreProperties>
</file>